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76CF-29D2-4A27-95AE-AB9DB69D5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96C5-5F42-492F-8027-8D7FD26B8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6444-EFDF-4CD5-AD52-5656D5EA9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BD47-3D0D-4D62-831C-686980B81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FF48-DC1B-44B0-833F-9DD5E7114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118D-4840-4E5B-890D-B89C0531D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6328-040B-4192-8E25-C9DBD7E49A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FDC4-C678-4AAF-9F6B-9FE3ED7C4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0A2C-25CB-4FE4-8B44-5E1D93345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782E-F565-4AED-9177-656FF37D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166A-D031-4EEB-922D-3A904565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999-D9BA-465F-9AED-4144B7B4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56C-DF3F-46A2-B40B-36B1A0DE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991A-FA0C-46DE-B865-2C771329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1F41-2606-43F5-817C-35C389FD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DE7E-B9AD-4372-8F15-C77E5026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5C21-756B-4707-9CB7-81BAD1C8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5387-6E6E-4D6F-B509-91108179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DA8E-55BA-460B-8994-1D0A54E6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0B5B-3945-48F3-888A-896A5DD7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1F5-9B21-4E85-A7BE-373BD5F3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C062-AF98-421A-8420-E6A657C1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A1FD-1867-48F2-93CE-3F99F581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5BD4-5534-4131-B322-28797797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970F-1580-4F62-A8C4-B1B58E5C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C191-E22C-41D9-9C15-6D8EE0E9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A8C09-1A5D-496D-B94C-0EC73C6F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7B552-8163-4CED-B987-B07269AD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6C5F-8185-4B5B-AA7A-9C4C4BC5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BE885-ACDE-41A9-8DDB-1820C68C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E0C3E-CD5C-448A-BA1F-E2A97AFB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3A98-58F6-417C-88B3-7B9AEA16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A9633-EAC2-4689-9A1C-0E932FF6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E90A-9325-4BAB-9836-8CC37AC3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2DA9-FCF6-4DD5-A051-174FC49F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6BDEB-AE0A-4F6A-A5D9-C9E64ABE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1ACCF-E049-4C0C-876E-ACBBE4DF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4B18C-E032-44D1-B99C-2079CFA67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67082-9845-48F7-8B3B-E47CD28E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97F82-06AB-4419-B3D2-518FE2EDB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46C69-2CB9-4194-95C9-61A0C364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CCFB-E3DD-41CD-872B-D486EF7E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3DF-E1C9-4ECC-B766-B3E9B817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43DF2-C69B-4DA0-99E7-C00B1E5C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8E460-63AA-4234-8462-D6EE5D73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2B312-6642-4580-BCC1-E675D24E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74C7-273C-4BAA-AF00-994701C8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BF51-9A0A-49F7-B55A-C322FC0D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D91C3-3112-490B-9990-779FED39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074FA-2673-4573-96EB-AC228C4D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73877-39B0-44C1-85C8-8E31B732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E3642-8B4D-4B63-8589-87F16AF2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C66-FC9D-45ED-B207-A12153E6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54EE-278D-4EE8-8EB6-D69E6C06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A6B-8C10-49EC-89B2-CA0CC6BD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F55-7869-476C-BA63-DFE6319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5F9-66D1-401B-B90F-F94D4198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18CA-6F86-4557-BBBD-C6D0DE72AFDA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BDD1-CA75-4BA8-A3F6-128D3EC155A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42C0-A5F2-4FD6-9DA5-F36A40DD76DC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833-60E5-4713-94F6-BE22990ECA2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C8E0-BD1C-44C9-B5A5-598A24D3E92A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0967-DE95-41D0-8F75-5A8A93088CB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C986-9EB9-4A27-82C6-EBB95136D51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61E7-3E90-495C-9D0C-8FD45706FD8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kidscanpress.com/US/CreatorDetails.aspx?cid=34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603360" y="835200"/>
            <a:ext cx="8345520" cy="1888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380520" y="3228480"/>
            <a:ext cx="80074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Born: February 10, 1955 in Toronto, Ontario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Currently lives in Port Perry Ontario with her husband,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Robert Courtice, their son, and cat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Studied Illustration at Sheridan College in Oakville, 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Constantia"/>
              </a:rPr>
              <a:t>Ontario</a:t>
            </a: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onstantia"/>
              </a:rPr>
              <a:t>        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Clark_Brenda_0034_large.jpg"/>
          <p:cNvPicPr/>
          <p:nvPr/>
        </p:nvPicPr>
        <p:blipFill>
          <a:blip r:embed="rId2"/>
          <a:stretch/>
        </p:blipFill>
        <p:spPr>
          <a:xfrm>
            <a:off x="838080" y="533520"/>
            <a:ext cx="2590920" cy="2590560"/>
          </a:xfrm>
          <a:prstGeom prst="rect">
            <a:avLst/>
          </a:prstGeom>
          <a:ln w="0">
            <a:noFill/>
          </a:ln>
        </p:spPr>
      </p:pic>
      <p:sp>
        <p:nvSpPr>
          <p:cNvPr id="205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~PP2897.WAV" descr=""/>
          <p:cNvPicPr/>
          <p:nvPr/>
        </p:nvPicPr>
        <p:blipFill>
          <a:blip r:embed="rId3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Background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renda started her illustration career as a freelancer in educational publishing 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She signed her first contract with Kids Can Press in 1983 for a story called 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Christopher and the Dream Dragon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written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y Allen Morgan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85 Brenda was offered to illustrate </a:t>
            </a:r>
            <a:r>
              <a:rPr b="0" i="1" lang="en-US" sz="3000" spc="-1" strike="noStrike">
                <a:solidFill>
                  <a:srgbClr val="000000"/>
                </a:solidFill>
                <a:latin typeface="Constantia"/>
              </a:rPr>
              <a:t>Franklin in the Dark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, written by Paulette Bourgeois.  The book received rave reviews and a series of Franklin books about the popular character was developed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~PP2999.WAV" descr=""/>
          <p:cNvPicPr/>
          <p:nvPr/>
        </p:nvPicPr>
        <p:blipFill>
          <a:blip r:embed="rId1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Franklin Serie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enda has illustrated more than 30 Franklin titles and numerous activity books for the seri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franklindark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85800" y="2971800"/>
            <a:ext cx="2133720" cy="258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franklinsaysiloveu.jpg"/>
          <p:cNvPicPr/>
          <p:nvPr/>
        </p:nvPicPr>
        <p:blipFill>
          <a:blip r:embed="rId2"/>
          <a:stretch/>
        </p:blipFill>
        <p:spPr>
          <a:xfrm>
            <a:off x="3352680" y="3048120"/>
            <a:ext cx="2095560" cy="2390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goestosch.jpg"/>
          <p:cNvPicPr/>
          <p:nvPr/>
        </p:nvPicPr>
        <p:blipFill>
          <a:blip r:embed="rId3"/>
          <a:stretch/>
        </p:blipFill>
        <p:spPr>
          <a:xfrm>
            <a:off x="6095880" y="3048120"/>
            <a:ext cx="1981440" cy="2367000"/>
          </a:xfrm>
          <a:prstGeom prst="rect">
            <a:avLst/>
          </a:prstGeom>
          <a:ln w="0">
            <a:noFill/>
          </a:ln>
        </p:spPr>
      </p:pic>
      <p:pic>
        <p:nvPicPr>
          <p:cNvPr id="217" name="~PP412.WAV" descr=""/>
          <p:cNvPicPr/>
          <p:nvPr/>
        </p:nvPicPr>
        <p:blipFill>
          <a:blip r:embed="rId4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0" y="144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1997 the first animated episode of Franklin was televised on Nickelodeon.  The series was modeled after the popular character created by Brenda Clark  and Paulette Bourgeo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franklin.jpg"/>
          <p:cNvPicPr/>
          <p:nvPr/>
        </p:nvPicPr>
        <p:blipFill>
          <a:blip r:embed="rId1"/>
          <a:stretch/>
        </p:blipFill>
        <p:spPr>
          <a:xfrm>
            <a:off x="3124080" y="27432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457200" y="5029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nda also helped to launch a series of Franklin spin-off books based on the Nickelodeon s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~PP3521.WAV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Award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989 IODE Book Award Toronto Chapter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Little Fingerl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0 Children’s Choices, International Reading Association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Franklin’s Class Trip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2 International Reading Association Young Adult Choices, shortlist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Franklin &amp; Harri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03 International Reading Association Young Adult Choices, shortlist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Franklin Says I Love Yo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~PP948.WAV" descr=""/>
          <p:cNvPicPr/>
          <p:nvPr/>
        </p:nvPicPr>
        <p:blipFill>
          <a:blip r:embed="rId1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Technique and Styl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enda uses transparent and opaque watercol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Placeholder 10" descr="0032_cv2.jpg"/>
          <p:cNvPicPr/>
          <p:nvPr/>
        </p:nvPicPr>
        <p:blipFill>
          <a:blip r:embed="rId1"/>
          <a:srcRect l="0" t="5887" r="0" b="5887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30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~PP159.WAV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704880"/>
            <a:ext cx="807732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Franklin in the Dark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Content Placeholder 3" descr="Franklin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685800" y="1447920"/>
            <a:ext cx="8078760" cy="5105160"/>
          </a:xfrm>
          <a:prstGeom prst="rect">
            <a:avLst/>
          </a:prstGeom>
          <a:ln w="0">
            <a:noFill/>
          </a:ln>
        </p:spPr>
      </p:pic>
      <p:sp>
        <p:nvSpPr>
          <p:cNvPr id="234" name="Footer Placeholder 4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~PP2184.WAV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4617b"/>
                </a:solidFill>
                <a:latin typeface="Calibri"/>
              </a:rPr>
              <a:t>References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nadian Children Book Centre. (1999)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Storymakers illustrating children’s books: 72 artists and illustrators talk about their work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ntario: Pembroke Publishers Limit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ids Can Press.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Brenda Clark, illustrotor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trieved from 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kidscanpress.com/US/CreatorDetails.aspx?cid=34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on February 24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01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ite L. (2002) Dream job: Brenda Clark bringing books to life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oronto Su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Toronto: Sun Med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Libr 271 Katherine Fra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~PP3963.WAV" descr=""/>
          <p:cNvPicPr/>
          <p:nvPr/>
        </p:nvPicPr>
        <p:blipFill>
          <a:blip r:embed="rId2"/>
          <a:stretch/>
        </p:blipFill>
        <p:spPr>
          <a:xfrm>
            <a:off x="8656560" y="6370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0:11:29Z</dcterms:created>
  <dc:creator>Valued Acer Customer</dc:creator>
  <dc:description/>
  <dc:language>en-US</dc:language>
  <cp:lastModifiedBy>Drew</cp:lastModifiedBy>
  <dcterms:modified xsi:type="dcterms:W3CDTF">2010-03-19T00:11:49Z</dcterms:modified>
  <cp:revision>29</cp:revision>
  <dc:subject/>
  <dc:title>Brenda Clark</dc:title>
</cp:coreProperties>
</file>